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BCA3-C011-4A8D-B7E3-DE1A222072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3C15-BBD5-4A86-AB86-E06D421025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670C-3DE7-4EA7-946B-832396C37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E88-8A10-44B0-BF12-E3B02AB7E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CCE5-6716-4B10-B8AA-623385477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D718-A26E-4431-AE32-96D81EB664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0440-B173-45DE-B76B-9F64DD5D4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E46-4902-49D6-B9E5-E3FD1E2170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004D-96B9-4459-967A-69CCF813C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6046-1A3E-4F04-B72A-FC0DD2779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7BA-F691-4A51-A778-8BC071D70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E294-CD9A-43F6-8A6C-09F1C2C5C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8B7-C735-4291-853A-FF08DA65A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9500-843F-489E-B976-0429DE48A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9745-35D9-44AC-A866-DC89F40116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90E7-F782-4309-9E46-26A870FEC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3C32-5803-411E-A5E6-4EDABC704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E683-AA48-4918-83C7-20386D55C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63FD-7D4E-40DA-A3CA-427C710DC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1BF-33FA-4CF3-920C-64C6E5A0F9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7DB-4DCD-4952-8F77-80079BF69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2667-C560-493B-AD02-611426BEA3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D2C-85CE-44C4-9444-3CE54CF33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657-8EA0-47A7-A1CC-2449A4D732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ADE0-10DE-4E35-B45A-427DE14B2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1B2-19C8-4FFF-B09E-EB04387B1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8DAD-CA57-4DEE-AD0B-766AFF64FE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F98B-B000-4135-8462-B3E69A6BEB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D55-9B3B-4F9E-9552-9553EE195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1957-992D-4451-9FFA-120CD6CDD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BB54-778E-4B75-8210-969AA7EEB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5EBD-9F74-4A32-AD15-32356AF31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4246-07E0-40BB-A984-C4CBED008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335-1917-49D5-A953-C4010BDA34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0B96-891B-4DF2-AC06-5509F3E29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B4B-788C-47DC-9F28-B8DA5D56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E5D-A4D3-4111-B0E8-A8FA987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D68-176D-4C05-8AB5-D4E7AD37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7268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7268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295-CCF9-4EC9-A9EA-8E11044B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436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C81-57E1-4ACE-8CBB-5A7F9D52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268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1253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400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268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3945960"/>
            <a:ext cx="27126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B1F-F9D9-446D-86A4-763357FE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1C3-79AC-4501-92C0-8D48D4A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0B9-87C4-41AE-9D01-0B5275A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A78-5251-48A3-915A-93D866FA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A70-8E90-4196-890F-DF96754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41120" y="39459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DBD-0E11-496A-8DE4-DBDA19A7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1120" y="1125360"/>
            <a:ext cx="411120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945960"/>
            <a:ext cx="8424720" cy="25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5E1-DCA3-4A58-A4BC-4E0059B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章前頁(彩)-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85680"/>
            <a:ext cx="9180360" cy="11523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1052640"/>
            <a:ext cx="9144000" cy="71280"/>
          </a:xfrm>
          <a:prstGeom prst="rect">
            <a:avLst/>
          </a:prstGeom>
          <a:gradFill rotWithShape="0">
            <a:gsLst>
              <a:gs pos="0">
                <a:srgbClr val="eaeaea">
                  <a:alpha val="45098"/>
                </a:srgbClr>
              </a:gs>
              <a:gs pos="100000">
                <a:srgbClr val="6c6c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66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E69A-D304-463E-975E-4A9C10A53E7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710400" y="-63360"/>
            <a:ext cx="24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秘密金鑰密碼系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55"/>
          <p:cNvSpPr/>
          <p:nvPr/>
        </p:nvSpPr>
        <p:spPr>
          <a:xfrm>
            <a:off x="6229440" y="6610320"/>
            <a:ext cx="237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僅供用書教師使用，版權所有，侵害必究</a:t>
            </a:r>
            <a:r>
              <a:rPr b="1" lang="en-US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©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圖片_x0020_5" descr="image013"/>
          <p:cNvPicPr/>
          <p:nvPr/>
        </p:nvPicPr>
        <p:blipFill>
          <a:blip r:embed="rId3"/>
          <a:stretch/>
        </p:blipFill>
        <p:spPr>
          <a:xfrm>
            <a:off x="5541840" y="6597720"/>
            <a:ext cx="25416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1"/>
          <p:cNvSpPr/>
          <p:nvPr/>
        </p:nvSpPr>
        <p:spPr>
          <a:xfrm>
            <a:off x="0" y="2637000"/>
            <a:ext cx="9144000" cy="71280"/>
          </a:xfrm>
          <a:prstGeom prst="rect">
            <a:avLst/>
          </a:prstGeom>
          <a:gradFill rotWithShape="0">
            <a:gsLst>
              <a:gs pos="0">
                <a:srgbClr val="eaeaea">
                  <a:alpha val="45098"/>
                </a:srgbClr>
              </a:gs>
              <a:gs pos="100000">
                <a:srgbClr val="6c6c6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6551640"/>
            <a:ext cx="9144000" cy="333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5"/>
          <p:cNvSpPr/>
          <p:nvPr/>
        </p:nvSpPr>
        <p:spPr>
          <a:xfrm>
            <a:off x="6229440" y="6610320"/>
            <a:ext cx="237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僅供用書教師使用，版權所有，侵害必究</a:t>
            </a:r>
            <a:r>
              <a:rPr b="1" lang="en-US" sz="1200" spc="-1" strike="noStrike">
                <a:solidFill>
                  <a:srgbClr val="3333cc"/>
                </a:solidFill>
                <a:latin typeface="Book Antiqua"/>
                <a:ea typeface="ＭＳ Ｐゴシック"/>
              </a:rPr>
              <a:t>©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圖片_x0020_5" descr="image013"/>
          <p:cNvPicPr/>
          <p:nvPr/>
        </p:nvPicPr>
        <p:blipFill>
          <a:blip r:embed="rId3"/>
          <a:stretch/>
        </p:blipFill>
        <p:spPr>
          <a:xfrm>
            <a:off x="5541840" y="6597720"/>
            <a:ext cx="254160" cy="249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66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秘密金鑰密碼系統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ecret Key Cryptosyste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7B7-B5A4-4E77-ABD7-A860BBA7DD89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755640" y="2205000"/>
            <a:ext cx="739152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換位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Transposition Cip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明文調換位置使別人不容易一眼看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x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,2,3,4,5,6,7,8)=(4,3,7,1,8,5,2,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50920" y="14842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傳統加密法與解密法分為下面兩種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24000" y="4076640"/>
            <a:ext cx="4824360" cy="45972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標楷體"/>
              </a:rPr>
              <a:t>COMPUTER → PMECRU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484360" y="260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古代密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1FD-9918-4873-B745-F09E1D0D269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26920" y="2997360"/>
            <a:ext cx="7455240" cy="316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298880" y="2997360"/>
            <a:ext cx="5288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簡單替代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mple Substit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編碼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e Bo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同音異字替代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mophonic Substit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字母替代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yalphabetic Substit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圖替代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ygram Substit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旋轉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otor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411280" y="18900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古代密碼系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1700280"/>
            <a:ext cx="745524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替代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Substitution Cip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其他文字取代明文中的每一個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08D8-5A05-4230-8CA2-B946CE89089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50920" y="1341360"/>
            <a:ext cx="864216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572920" y="477216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=COMPUTER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明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728800" y="5708520"/>
            <a:ext cx="30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=DXIJSRAW 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7080" y="2565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71840" y="52513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簡單替換法加密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138560" y="5251320"/>
            <a:ext cx="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443040" y="1484280"/>
            <a:ext cx="2265480" cy="459720"/>
          </a:xfrm>
          <a:prstGeom prst="rect">
            <a:avLst/>
          </a:prstGeom>
          <a:solidFill>
            <a:srgbClr val="404040"/>
          </a:solidFill>
          <a:ln w="9360">
            <a:solidFill>
              <a:srgbClr val="cc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</a:rPr>
              <a:t>M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r>
              <a:rPr b="1" lang="en-US" sz="2400" spc="-1" strike="noStrike">
                <a:solidFill>
                  <a:srgbClr val="ffffff"/>
                </a:solidFill>
                <a:latin typeface="標楷體"/>
              </a:rPr>
              <a:t>C 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</a:rPr>
              <a:t>為一對一之對應關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簡單替代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imple Substitu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659304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F6D-6001-4F39-A8E5-A0E1CFEE22F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編碼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de Boo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71640" y="12463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隨機編碼本範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42920" y="50878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資訊管理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2 3661 45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435640" y="12682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編碼本範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148360" y="515772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『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資訊管理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4 02 26 63 45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600200" cy="243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4960800" y="2133720"/>
            <a:ext cx="27720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08A1-0AA0-4802-ADC3-D8DB3FC98018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82720" y="1484280"/>
            <a:ext cx="7391160" cy="4022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19280" y="1773360"/>
            <a:ext cx="6008760" cy="459720"/>
          </a:xfrm>
          <a:prstGeom prst="rect">
            <a:avLst/>
          </a:prstGeom>
          <a:solidFill>
            <a:srgbClr val="404040"/>
          </a:solidFill>
          <a:ln w="9360">
            <a:solidFill>
              <a:srgbClr val="cc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將明文每個字母以一組數中的任意個來替代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87280" y="2382840"/>
          <a:ext cx="2514600" cy="2565360"/>
        </p:xfrm>
        <a:graphic>
          <a:graphicData uri="http://schemas.openxmlformats.org/drawingml/2006/table">
            <a:tbl>
              <a:tblPr/>
              <a:tblGrid>
                <a:gridCol w="719280"/>
                <a:gridCol w="1795320"/>
              </a:tblGrid>
              <a:tr h="30492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字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音異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70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33,88,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,13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,06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92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18,21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50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,09,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15,43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36"/>
          <p:cNvSpPr/>
          <p:nvPr/>
        </p:nvSpPr>
        <p:spPr>
          <a:xfrm>
            <a:off x="3919320" y="2763720"/>
            <a:ext cx="3667680" cy="4597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=COMPUTER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明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3909240" y="4516560"/>
            <a:ext cx="416736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=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Times New Roman"/>
              </a:rPr>
              <a:t>11 61 19 08 14 16 17 8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密文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5580720" y="3600360"/>
            <a:ext cx="18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</a:rPr>
              <a:t>同音異字法加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9"/>
          <p:cNvSpPr/>
          <p:nvPr/>
        </p:nvSpPr>
        <p:spPr>
          <a:xfrm>
            <a:off x="5226120" y="3449520"/>
            <a:ext cx="0" cy="838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同音異字替代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mophoni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BA59-9012-4734-B970-B1AA78247A2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938160" y="1558800"/>
            <a:ext cx="7391520" cy="4246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547640" y="1844640"/>
            <a:ext cx="6172200" cy="1005480"/>
          </a:xfrm>
          <a:prstGeom prst="rect">
            <a:avLst/>
          </a:prstGeom>
          <a:solidFill>
            <a:srgbClr val="404040"/>
          </a:solidFill>
          <a:ln w="9360">
            <a:solidFill>
              <a:srgbClr val="ccffcc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將最常見的為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genere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加密法，以數學式子表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)=(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mo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309760" y="2911320"/>
            <a:ext cx="4952880" cy="4597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OMPUTER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明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309760" y="5121360"/>
            <a:ext cx="4952880" cy="510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=NCHTFHZV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密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398600" y="3521160"/>
            <a:ext cx="6629400" cy="1447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619080" y="420516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多字母替代法加密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419640" y="3716280"/>
            <a:ext cx="2592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LOVELOV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95280" y="260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多字母替代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olyalphabeti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0C59-8E23-4165-A8B4-C34C81C1D46B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795240" y="1484280"/>
            <a:ext cx="7593120" cy="440640"/>
          </a:xfrm>
          <a:prstGeom prst="rect">
            <a:avLst/>
          </a:prstGeom>
          <a:solidFill>
            <a:srgbClr val="404040"/>
          </a:solidFill>
          <a:ln w="9360">
            <a:solidFill>
              <a:srgbClr val="cc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多圖替代法其基本觀念是將一組字母一起加密，其基本精神是將每一對之明文之字母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,m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一起加密成密文字母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,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。如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layfair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Times New Roman"/>
              </a:rPr>
              <a:t>密碼法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</a:rPr>
              <a:t>其規則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26920" y="2565360"/>
            <a:ext cx="751068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在同一列，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分別為其右邊之字母，其中最右一行之字母的右邊為第一行之字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在同一行，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分別為其下方字母，其中最下一列之字母的下方為第一列之字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不同行和列，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為其相對應之方形邊角，其中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同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，則將一空字母（設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）加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之間，使不成為連續相同字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若明文之字串長度為奇數則在尾端加一空字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08000" y="260280"/>
            <a:ext cx="90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多圖替代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olygram Substitu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E69-3159-476A-BFD9-4F83B38FB30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26920" y="1557360"/>
            <a:ext cx="7391520" cy="4038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55520" y="2090880"/>
          <a:ext cx="2286000" cy="23619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1"/>
          <p:cNvSpPr/>
          <p:nvPr/>
        </p:nvSpPr>
        <p:spPr>
          <a:xfrm>
            <a:off x="1266480" y="4646520"/>
            <a:ext cx="1905840" cy="36828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yfair </a:t>
            </a:r>
            <a:r>
              <a:rPr b="1" lang="zh-TW" sz="1800" spc="-1" strike="noStrike">
                <a:solidFill>
                  <a:srgbClr val="ffffff"/>
                </a:solidFill>
                <a:latin typeface="Times New Roman"/>
              </a:rPr>
              <a:t>加密法金鑰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3634560" y="2319480"/>
            <a:ext cx="3897000" cy="4597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明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3633120" y="3919680"/>
            <a:ext cx="393300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密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5220360" y="3156120"/>
            <a:ext cx="18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</a:rPr>
              <a:t>多圖替代法加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>
            <a:off x="4859280" y="3005280"/>
            <a:ext cx="0" cy="838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6"/>
          <p:cNvSpPr/>
          <p:nvPr/>
        </p:nvSpPr>
        <p:spPr>
          <a:xfrm>
            <a:off x="36360" y="260280"/>
            <a:ext cx="90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多圖替代法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olygram Substitu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1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2A42-AC04-4331-85FA-FF81E1B13E3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36360" y="260280"/>
            <a:ext cx="90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旋轉機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otor Machi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036800" y="1052640"/>
            <a:ext cx="73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</a:rPr>
              <a:t>密碼學家設計出一種結合多個旋轉滾輪的多重加密系統，稱為旋轉機，可以讓明文與密文產生一對多的關係，以增加其安全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66356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旋轉機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883040" y="6165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旋轉機的加解密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690560" y="2406600"/>
            <a:ext cx="2017800" cy="3727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400640" y="2433600"/>
            <a:ext cx="3987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7AE6-D09D-46E6-B0E3-8594070F13B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258920" y="260280"/>
            <a:ext cx="68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古代密碼系統之破解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55640" y="1471680"/>
            <a:ext cx="763272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窮舉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Brute-Force Att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541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將所有可能的情況均嘗試一遍，直到找出正確的解密方式為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統計攻擊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Statistics Att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54160"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利用一些統計資料來協助破解密碼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54160"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出現頻率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』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出現頻率高出許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71EA-645C-4296-9DE9-74879140549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564000" y="260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071720" y="1731960"/>
            <a:ext cx="6553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密碼學之基本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古代密碼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近代密碼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秘密金鑰密碼系統的加密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三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密碼系統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DES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29E4-0DE1-4FDA-96B3-B67418805DB2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14320" y="1692360"/>
            <a:ext cx="7391520" cy="3352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2920" y="18446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傳統數據保密技術並不能保證系統的安全，而且應用上也受到相當大之限制。比如中文系統就很難用換位法以達到保密效果，試想將 “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今天我不回家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” 之明文換位置成 “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回不天家我今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” 之密文，該密文一看就可重組成明文而不需藉其它工具來破解，所以我們需要使用一些以“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位元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”為處理單位的加密系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47640" y="2602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近代密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667-A328-4E93-8F40-3A14C8443B4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953800" y="217440"/>
            <a:ext cx="28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加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90560" y="1994040"/>
            <a:ext cx="756144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對稱式加密系統之代表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年代中期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司所發展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美國國家標準局公佈為資料加密標準的一種區塊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lock Ciph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屬於區塊加密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而區塊加密法就是對一定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大小的明文或密文來做加密或解密動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每次加密解密的區塊大小均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its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08240" y="1380960"/>
            <a:ext cx="56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◎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S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AF60-7249-4E24-83FB-7328B425B85F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38080" y="1741320"/>
            <a:ext cx="7713720" cy="30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就一般資料而言，資料通常大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。只要將明文或密文中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當作一個區塊加以切割，再將每個區塊做加密或解密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最後一個區塊大小可能小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，此時就要將此區塊附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，直到區塊大小成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用加密或解密金鑰也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大小。但其中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位元是用來做錯誤更正，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真正的金鑰有效長度只有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位元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近幾年，電腦硬體發展太快，要破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秘密金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已非難事，因此目前大多採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ES(Triple DES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架構來擴展秘密金鑰長度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08240" y="1204920"/>
            <a:ext cx="56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◎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S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2953800" y="217440"/>
            <a:ext cx="28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加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投影片編號版面配置區 1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DAEF-6343-4FA5-93FF-D7E75E935FD4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82680" y="219240"/>
            <a:ext cx="34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乘法加密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群組 21"/>
          <p:cNvGrpSpPr/>
          <p:nvPr/>
        </p:nvGrpSpPr>
        <p:grpSpPr>
          <a:xfrm>
            <a:off x="326880" y="3284640"/>
            <a:ext cx="8622000" cy="871560"/>
            <a:chOff x="326880" y="3284640"/>
            <a:chExt cx="8622000" cy="871560"/>
          </a:xfrm>
        </p:grpSpPr>
        <p:grpSp>
          <p:nvGrpSpPr>
            <p:cNvPr id="213" name="群組 8"/>
            <p:cNvGrpSpPr/>
            <p:nvPr/>
          </p:nvGrpSpPr>
          <p:grpSpPr>
            <a:xfrm>
              <a:off x="1838880" y="3396960"/>
              <a:ext cx="2088360" cy="721440"/>
              <a:chOff x="1838880" y="3396960"/>
              <a:chExt cx="2088360" cy="721440"/>
            </a:xfrm>
          </p:grpSpPr>
          <p:sp>
            <p:nvSpPr>
              <p:cNvPr id="214" name="矩形 5"/>
              <p:cNvSpPr/>
              <p:nvPr/>
            </p:nvSpPr>
            <p:spPr>
              <a:xfrm>
                <a:off x="1838880" y="3396960"/>
                <a:ext cx="2088360" cy="72144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文字方塊 6"/>
              <p:cNvSpPr/>
              <p:nvPr/>
            </p:nvSpPr>
            <p:spPr>
              <a:xfrm>
                <a:off x="2018160" y="352584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加密系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群組 9"/>
            <p:cNvGrpSpPr/>
            <p:nvPr/>
          </p:nvGrpSpPr>
          <p:grpSpPr>
            <a:xfrm>
              <a:off x="5392440" y="3434760"/>
              <a:ext cx="2088360" cy="721440"/>
              <a:chOff x="5392440" y="3434760"/>
              <a:chExt cx="2088360" cy="721440"/>
            </a:xfrm>
          </p:grpSpPr>
          <p:sp>
            <p:nvSpPr>
              <p:cNvPr id="217" name="矩形 10"/>
              <p:cNvSpPr/>
              <p:nvPr/>
            </p:nvSpPr>
            <p:spPr>
              <a:xfrm>
                <a:off x="5392440" y="3434760"/>
                <a:ext cx="2088360" cy="72144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文字方塊 11"/>
              <p:cNvSpPr/>
              <p:nvPr/>
            </p:nvSpPr>
            <p:spPr>
              <a:xfrm>
                <a:off x="5572080" y="356436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加密系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9" name="直線單箭頭接點 13"/>
            <p:cNvCxnSpPr/>
            <p:nvPr/>
          </p:nvCxnSpPr>
          <p:spPr>
            <a:xfrm flipV="1">
              <a:off x="3914280" y="3756600"/>
              <a:ext cx="146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直線單箭頭接點 14"/>
            <p:cNvCxnSpPr/>
            <p:nvPr/>
          </p:nvCxnSpPr>
          <p:spPr>
            <a:xfrm>
              <a:off x="326880" y="3756960"/>
              <a:ext cx="15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直線單箭頭接點 17"/>
            <p:cNvCxnSpPr/>
            <p:nvPr/>
          </p:nvCxnSpPr>
          <p:spPr>
            <a:xfrm flipV="1">
              <a:off x="7480080" y="3794760"/>
              <a:ext cx="146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文字方塊 18"/>
            <p:cNvSpPr/>
            <p:nvPr/>
          </p:nvSpPr>
          <p:spPr>
            <a:xfrm>
              <a:off x="488880" y="329508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明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文字方塊 19" descr=""/>
            <p:cNvPicPr/>
            <p:nvPr/>
          </p:nvPicPr>
          <p:blipFill>
            <a:blip r:embed="rId1"/>
            <a:stretch/>
          </p:blipFill>
          <p:spPr>
            <a:xfrm>
              <a:off x="4053960" y="3284640"/>
              <a:ext cx="118872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文字方塊 20"/>
            <p:cNvSpPr/>
            <p:nvPr/>
          </p:nvSpPr>
          <p:spPr>
            <a:xfrm>
              <a:off x="7620840" y="3337560"/>
              <a:ext cx="11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密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D3C3-1924-4210-BAA0-86F8724A939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1257120" y="2276640"/>
            <a:ext cx="675180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C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加密模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ctroni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ok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B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加密模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ining M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F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加密模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k Mod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加密模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tp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k Mod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481760" y="1484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四種加密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39640" y="260280"/>
            <a:ext cx="84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秘密金鑰密碼系統的加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C84F-43EC-4F76-9390-1E3621270B7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260880" y="430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49720" y="4941720"/>
            <a:ext cx="392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76720" y="4941720"/>
            <a:ext cx="36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優點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可以平行處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缺點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相同明文產生相同密文，內容可被剪貼替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8" descr="p5"/>
          <p:cNvPicPr/>
          <p:nvPr/>
        </p:nvPicPr>
        <p:blipFill>
          <a:blip r:embed="rId1"/>
          <a:stretch/>
        </p:blipFill>
        <p:spPr>
          <a:xfrm>
            <a:off x="395280" y="1662120"/>
            <a:ext cx="8640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07A-63A1-4558-81EB-1C2B5D0CF3C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09480" y="4724280"/>
            <a:ext cx="13716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0" i="1" lang="en-US" sz="1200" spc="-1" strike="noStrike">
                <a:solidFill>
                  <a:srgbClr val="000000"/>
                </a:solidFill>
                <a:latin typeface="標楷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048120" y="4724280"/>
            <a:ext cx="13716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0" i="1" lang="en-US" sz="1600" spc="-1" strike="noStrike">
                <a:solidFill>
                  <a:srgbClr val="000000"/>
                </a:solidFill>
                <a:latin typeface="標楷體"/>
              </a:rPr>
              <a:t>i-</a:t>
            </a:r>
            <a:r>
              <a:rPr b="0" i="1" lang="en-US" sz="1200" spc="-1" strike="noStrike">
                <a:solidFill>
                  <a:srgbClr val="000000"/>
                </a:solidFill>
                <a:latin typeface="標楷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4648320" y="4724280"/>
            <a:ext cx="13716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0" i="1" lang="en-US" sz="1600" spc="-1" strike="noStrike">
                <a:solidFill>
                  <a:srgbClr val="000000"/>
                </a:solidFill>
                <a:latin typeface="標楷體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010280" y="4724280"/>
            <a:ext cx="13716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0" i="1" lang="en-US" sz="1600" spc="-1" strike="noStrike">
                <a:solidFill>
                  <a:srgbClr val="000000"/>
                </a:solidFill>
                <a:latin typeface="標楷體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533520" y="1752480"/>
            <a:ext cx="1371600" cy="38124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</a:rPr>
              <a:t>密文區塊</a:t>
            </a:r>
            <a:r>
              <a:rPr b="0" i="1" lang="en-US" sz="1200" spc="-1" strike="noStrike">
                <a:solidFill>
                  <a:srgbClr val="ffffff"/>
                </a:solidFill>
                <a:latin typeface="標楷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971800" y="1752480"/>
            <a:ext cx="1371600" cy="38124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</a:rPr>
              <a:t>密文區塊</a:t>
            </a:r>
            <a:r>
              <a:rPr b="0" i="1" lang="en-US" sz="1600" spc="-1" strike="noStrike">
                <a:solidFill>
                  <a:srgbClr val="ffffff"/>
                </a:solidFill>
                <a:latin typeface="標楷體"/>
              </a:rPr>
              <a:t>i-</a:t>
            </a:r>
            <a:r>
              <a:rPr b="0" i="1" lang="en-US" sz="1200" spc="-1" strike="noStrike">
                <a:solidFill>
                  <a:srgbClr val="ffffff"/>
                </a:solidFill>
                <a:latin typeface="標楷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72000" y="1752480"/>
            <a:ext cx="1371600" cy="38124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</a:rPr>
              <a:t>密文區塊</a:t>
            </a:r>
            <a:r>
              <a:rPr b="0" i="1" lang="en-US" sz="1600" spc="-1" strike="noStrike">
                <a:solidFill>
                  <a:srgbClr val="ffffff"/>
                </a:solidFill>
                <a:latin typeface="標楷體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7016760" y="1752480"/>
            <a:ext cx="1371600" cy="38124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標楷體"/>
              </a:rPr>
              <a:t>密文區塊</a:t>
            </a:r>
            <a:r>
              <a:rPr b="0" i="1" lang="en-US" sz="1600" spc="-1" strike="noStrike">
                <a:solidFill>
                  <a:srgbClr val="ffffff"/>
                </a:solidFill>
                <a:latin typeface="標楷體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762120" y="2971800"/>
            <a:ext cx="1066680" cy="838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eed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1295280" y="22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129528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3200400" y="2971800"/>
            <a:ext cx="1066680" cy="838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eed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3733920" y="22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373392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4800600" y="2971800"/>
            <a:ext cx="1066680" cy="838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eed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5334120" y="22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533412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7238880" y="2971800"/>
            <a:ext cx="1067040" cy="838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eedd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7772400" y="38862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2135160" y="31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213516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2135160" y="16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6097680" y="3200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173640" y="4724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6097680" y="167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3108240" y="164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2585160" y="5410080"/>
            <a:ext cx="392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解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11A-3251-4364-9476-472072BA6D3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899000" y="5181480"/>
            <a:ext cx="54410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♁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♁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-1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p5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3524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AC55-18B2-45EF-B328-2D977AE35307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24000" y="5118120"/>
            <a:ext cx="86040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優點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相同明文可以產生不相同密文，不會有剪貼替換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缺點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不能平行處理（解密程序可）；一個位元錯，之後全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p5"/>
          <p:cNvPicPr/>
          <p:nvPr/>
        </p:nvPicPr>
        <p:blipFill>
          <a:blip r:embed="rId1"/>
          <a:stretch/>
        </p:blipFill>
        <p:spPr>
          <a:xfrm>
            <a:off x="179280" y="1309680"/>
            <a:ext cx="8713800" cy="34876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FFCC-7CC7-4D43-9B73-E4D818EAF803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175840" y="5181480"/>
            <a:ext cx="53953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♁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-1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♁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p5"/>
          <p:cNvPicPr/>
          <p:nvPr/>
        </p:nvPicPr>
        <p:blipFill>
          <a:blip r:embed="rId1"/>
          <a:stretch/>
        </p:blipFill>
        <p:spPr>
          <a:xfrm>
            <a:off x="250920" y="1438200"/>
            <a:ext cx="8642160" cy="3430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E8C-0630-4B19-A454-C009F536C5A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411280" y="260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55640" y="1628640"/>
            <a:ext cx="7561440" cy="477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透過網路來傳遞機密資訊，很容易就被竊聽。因此，對於機密資料存入於磁碟、備援儲存媒體或傳遞網路前，應先加密成密文，使一般未經授權人員不能得知其內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287-F7DC-449E-A3E9-651EE51D6B4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95280" y="4869000"/>
            <a:ext cx="835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優點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一個密文區塊錯誤僅影響目前區塊及下一個區塊；加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	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區塊長度可變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缺點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: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不能平行處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" descr="p5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33814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72D0-E784-46E9-84FC-D01909FF091C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2133000" y="5199120"/>
            <a:ext cx="4604400" cy="879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標楷體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V )       </a:t>
            </a:r>
            <a:r>
              <a:rPr b="1" i="1" lang="en-US" sz="2400" spc="-1" strike="noStrike">
                <a:solidFill>
                  <a:srgbClr val="000000"/>
                </a:solidFill>
                <a:latin typeface="標楷體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加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標楷體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♁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7" descr="p5"/>
          <p:cNvPicPr/>
          <p:nvPr/>
        </p:nvPicPr>
        <p:blipFill>
          <a:blip r:embed="rId1"/>
          <a:stretch/>
        </p:blipFill>
        <p:spPr>
          <a:xfrm>
            <a:off x="250920" y="1411200"/>
            <a:ext cx="8569080" cy="3457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加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9B1-07BC-4333-A1D0-F5E9FBDE620A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3505320" y="533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201400" y="5105520"/>
            <a:ext cx="4604400" cy="879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標楷體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V )       </a:t>
            </a:r>
            <a:r>
              <a:rPr b="1" i="1" lang="en-US" sz="2400" spc="-1" strike="noStrike">
                <a:solidFill>
                  <a:srgbClr val="000000"/>
                </a:solidFill>
                <a:latin typeface="標楷體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明文區塊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標楷體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♁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密文區塊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標楷體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6" descr="p5"/>
          <p:cNvPicPr/>
          <p:nvPr/>
        </p:nvPicPr>
        <p:blipFill>
          <a:blip r:embed="rId1"/>
          <a:stretch/>
        </p:blipFill>
        <p:spPr>
          <a:xfrm>
            <a:off x="324000" y="1390680"/>
            <a:ext cx="8281800" cy="33336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2868480" y="26028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解密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4252-2620-42EF-AAFF-05B884D6B97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611280" y="26028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6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三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密碼系統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ple DES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185280" y="5373720"/>
            <a:ext cx="2679840" cy="45972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ple DES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加密架構</a:t>
            </a:r>
            <a:r>
              <a:rPr b="1" i="1" lang="zh-TW" sz="1800" spc="-1" strike="noStrike">
                <a:solidFill>
                  <a:srgbClr val="ffffff"/>
                </a:solidFill>
                <a:latin typeface="標楷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5" descr="p5"/>
          <p:cNvPicPr/>
          <p:nvPr/>
        </p:nvPicPr>
        <p:blipFill>
          <a:blip r:embed="rId1"/>
          <a:stretch/>
        </p:blipFill>
        <p:spPr>
          <a:xfrm>
            <a:off x="1116000" y="1382760"/>
            <a:ext cx="7128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B361-FD70-4831-B52D-BD37B9CFEE20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108000" y="260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ES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使用方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611280" y="1197000"/>
            <a:ext cx="80643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107964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EE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三把不同秘密金鑰（即金鑰長度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）並以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依序處理產生密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E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三把不同秘密金鑰，並以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依序處理產生密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EE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二把不同秘密金鑰（即金鑰長度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）任選二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金鑰設為相同（例如，第一個及第二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金鑰相同，但與第三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金鑰不同），並以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依序處理產生密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79640" indent="-1079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E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二把不同秘密金鑰（即金鑰長度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元）第一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金鑰與第三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金鑰相同，但與第二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金鑰不同，並以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密依序處理產生密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E8AE-45DF-4DC3-8DA6-15C6041E464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179280" y="260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ES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使用方式：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E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6" descr="p5"/>
          <p:cNvPicPr/>
          <p:nvPr/>
        </p:nvPicPr>
        <p:blipFill>
          <a:blip r:embed="rId1"/>
          <a:stretch/>
        </p:blipFill>
        <p:spPr>
          <a:xfrm>
            <a:off x="468360" y="1700280"/>
            <a:ext cx="8064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22FF-8DAF-40BF-8D1D-CE29BD008A76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219564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密碼學基本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843280" y="5502240"/>
            <a:ext cx="3097080" cy="52056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基本的加解密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p5"/>
          <p:cNvPicPr/>
          <p:nvPr/>
        </p:nvPicPr>
        <p:blipFill>
          <a:blip r:embed="rId1"/>
          <a:stretch/>
        </p:blipFill>
        <p:spPr>
          <a:xfrm>
            <a:off x="466560" y="1341360"/>
            <a:ext cx="81378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B031-9E13-4C04-9F9F-06A3F7EC5CBD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密碼學基本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56360" y="3645000"/>
            <a:ext cx="25812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加密演算法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解密演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密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明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金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614600" y="1484280"/>
            <a:ext cx="457200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加密公式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 = 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解密公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) = 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M)) =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0293-C76E-4AF2-9CEB-8FD79056C14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95280" y="260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為什麼加密方法或演算法必需要公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39640" y="1754280"/>
            <a:ext cx="806472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較不佔空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未公開的加解密演算法也難保其安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相容性的問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809-F5EB-4EFC-BB73-9514893D7A4E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547640" y="26028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密碼系統的安全性程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900000" y="1557360"/>
            <a:ext cx="7632720" cy="28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無條件安全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(Unconditionally Sec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</a:rPr>
              <a:t>非法使用者不管截獲多少個密文，用盡各種方法還是沒有足夠資訊可以導出明文機密資料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計算安全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(Computationall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Sec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以目前或未來預測之科技、合理之資源設備下，要破解密碼系統需要一段相當長的時間（例如數百年）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5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FA45-883C-4422-B000-B92ABE8ACF52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7640" y="26028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無條件安全密碼系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65280" y="1214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ne-time Pad</a:t>
            </a:r>
            <a:r>
              <a:rPr b="0" lang="en-US" sz="3200" spc="-1" strike="noStrike">
                <a:solidFill>
                  <a:srgbClr val="3333cc"/>
                </a:solidFill>
                <a:latin typeface="標楷體"/>
              </a:rPr>
              <a:t> 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</a:rPr>
              <a:t>加密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14240" y="1854360"/>
            <a:ext cx="82440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加解密過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⊕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⊕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加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111000 ⊕010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解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⊕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0111000⊕01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10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3"/>
          <p:cNvSpPr/>
          <p:nvPr/>
        </p:nvSpPr>
        <p:spPr>
          <a:xfrm>
            <a:off x="70930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F632-1FE3-4C7F-9F9A-710AD9D38E61}" type="slidenum">
              <a:rPr b="0" lang="en-US" sz="1400" spc="-1" strike="noStrike">
                <a:solidFill>
                  <a:srgbClr val="cc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340080" y="260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密碼系統的分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250920" y="141300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對稱式密碼系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ymmetric Crypt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或秘密金鑰密碼系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ret-Key Crypt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或單金鑰密碼系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ne-Key Crypt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324000" y="393372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非對稱式密碼系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ymmetric Crypt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或公開金鑰密碼系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ublic-Key Crypt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或雙金鑰密碼系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wo-Key Crypt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2268360" y="3141720"/>
            <a:ext cx="4248360" cy="45972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加密金鑰及解密金鑰為同一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08000" y="5589720"/>
            <a:ext cx="5113440" cy="459720"/>
          </a:xfrm>
          <a:prstGeom prst="rect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加密與解密金鑰為不相同的兩把金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5:15:57Z</dcterms:created>
  <dc:creator>mshwang</dc:creator>
  <dc:description/>
  <dc:language>en-US</dc:language>
  <cp:lastModifiedBy>Chen, Chun-Chieh</cp:lastModifiedBy>
  <cp:lastPrinted>2000-10-18T08:48:42Z</cp:lastPrinted>
  <dcterms:modified xsi:type="dcterms:W3CDTF">2014-08-19T09:11:10Z</dcterms:modified>
  <cp:revision>255</cp:revision>
  <dc:subject/>
  <dc:title>無投影片標題</dc:title>
</cp:coreProperties>
</file>