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D930-CA8C-4499-B85D-ADB9B4880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E09D-A22F-410B-933E-FF979D99C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A812-44BE-4FF0-B209-F440EBFA0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44EA-2A62-44D8-9578-0C4A17172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88E4-2C5A-4A3C-BB41-F18A1404C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E345-DEFA-4C0F-9E2A-F0DC045C9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1FC5-00E5-462A-A969-A7CC352A3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1544-B273-420E-9834-26308F41D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228E-9D28-4487-B70C-BA4EEBBE2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F712-01AD-41CB-BEB9-AB75DABE8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D4AF-7CD3-4FF6-8E62-EC1669EEF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0FCC-6E16-48E5-A16E-74D0E1CAD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03C6-0FE5-48E8-A977-CFDFF809B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C941-495A-4B9D-BC82-4760B5D83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B602-CD8F-4755-BFDB-7E807DBD5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7E7E-59C7-47D1-8F2C-8B1C6FED8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FB9C-6B38-42B6-81AB-416FDB797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C01C-E58C-434C-A92C-F41D0C2FD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67B1-926A-4A75-8E33-D2F62FC06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59F2-A417-4139-A327-E482169CD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5070-F422-428D-B762-7EA1E50AB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E300-A48B-4649-96A3-8834C384F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03DF-AA4C-4C42-8211-265907DD4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E335-5461-414B-A1CF-235396F37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EEFD-A426-48A6-BAF1-8AA52A5DD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DA21-F871-4D3B-AF89-2B824AC52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F45D-8A27-4404-ACEB-10F46FAFD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D9F8-FE15-4523-A146-7204AD446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CD71-4D80-46BF-B0E7-51BE8BCD7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0170-A6BF-45FA-9F0F-DD762C010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531C-281F-4BC3-877C-4EFE074DE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1712-131C-413E-A842-058104280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87A9-DB50-4B8B-B689-780836854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1EBE-F196-4DB1-8D19-D11EFEA25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FB3D-B087-4235-920D-7AC439FB8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9FBA-403D-4A2D-8502-3C44C729C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BA99-85B7-4430-8B46-73BF17DAE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E57D-B94C-4EF6-83B1-12E05B4D6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2472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000" y="3945960"/>
            <a:ext cx="842472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C1F4-B4B3-438E-9577-1091E19F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41120" y="11253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24000" y="39459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41120" y="39459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633F-1E6E-4B36-A2BD-C75A561E9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2712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72680" y="1125360"/>
            <a:ext cx="2712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1360" y="1125360"/>
            <a:ext cx="2712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24000" y="3945960"/>
            <a:ext cx="2712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72680" y="3945960"/>
            <a:ext cx="2712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1360" y="3945960"/>
            <a:ext cx="2712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9349-34F9-4DE8-B689-CD5EB7E1E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24000" y="1125360"/>
            <a:ext cx="8424720" cy="53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247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112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1120" y="1125360"/>
            <a:ext cx="41112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4360" y="43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1120" y="1125360"/>
            <a:ext cx="41112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39459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24000" y="1125360"/>
            <a:ext cx="8424720" cy="53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D27D-B7C8-4854-99AE-D7419BCA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112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1120" y="11253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41120" y="39459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1120" y="11253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24000" y="3945960"/>
            <a:ext cx="842472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2472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4000" y="3945960"/>
            <a:ext cx="842472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1120" y="11253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24000" y="39459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41120" y="39459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2712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72680" y="1125360"/>
            <a:ext cx="2712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1360" y="1125360"/>
            <a:ext cx="2712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24000" y="3945960"/>
            <a:ext cx="2712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72680" y="3945960"/>
            <a:ext cx="2712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1360" y="3945960"/>
            <a:ext cx="2712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247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A1EB-CAC8-4662-A94F-A96FDAA9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112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1120" y="1125360"/>
            <a:ext cx="41112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E3A6-8998-40F0-8507-D64F4BD5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8C91-58F8-4957-A4DD-B36223F3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4360" y="43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9EEC-8C17-4F90-849C-8F5036D0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1120" y="1125360"/>
            <a:ext cx="41112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24000" y="39459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8C71-16A2-45AC-84AA-6D75C5B3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112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1120" y="11253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41120" y="39459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8F56-3F74-426E-BCBD-F2AFC6B9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1120" y="11253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24000" y="3945960"/>
            <a:ext cx="842472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DA42-E03D-406E-A601-F6980DDB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章前頁(彩)-3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-85680"/>
            <a:ext cx="9180360" cy="115236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1052640"/>
            <a:ext cx="9144000" cy="71280"/>
          </a:xfrm>
          <a:prstGeom prst="rect">
            <a:avLst/>
          </a:prstGeom>
          <a:gradFill rotWithShape="0">
            <a:gsLst>
              <a:gs pos="0">
                <a:srgbClr val="eaeaea">
                  <a:alpha val="45098"/>
                </a:srgbClr>
              </a:gs>
              <a:gs pos="100000">
                <a:srgbClr val="6c6c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24000" y="1125360"/>
            <a:ext cx="8424720" cy="53992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7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7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7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47B9-873B-420E-813B-9475B56A0CC6}" type="datetime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115/0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黃明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9272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282E-A7D4-4831-A54B-32C23B2C1774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6710400" y="-63360"/>
            <a:ext cx="243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使用者身分鑑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9"/>
          <p:cNvSpPr/>
          <p:nvPr/>
        </p:nvSpPr>
        <p:spPr>
          <a:xfrm>
            <a:off x="0" y="6551640"/>
            <a:ext cx="9144000" cy="333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55"/>
          <p:cNvSpPr/>
          <p:nvPr/>
        </p:nvSpPr>
        <p:spPr>
          <a:xfrm>
            <a:off x="6229440" y="6610320"/>
            <a:ext cx="2377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3333cc"/>
                </a:solidFill>
                <a:latin typeface="Book Antiqua"/>
                <a:ea typeface="ＭＳ Ｐゴシック"/>
              </a:rPr>
              <a:t>僅供用書教師使用，版權所有，侵害必究</a:t>
            </a:r>
            <a:r>
              <a:rPr b="1" lang="en-US" sz="1200" spc="-1" strike="noStrike">
                <a:solidFill>
                  <a:srgbClr val="3333cc"/>
                </a:solidFill>
                <a:latin typeface="Book Antiqua"/>
                <a:ea typeface="ＭＳ Ｐゴシック"/>
              </a:rPr>
              <a:t>© 2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圖片_x0020_5" descr="image013"/>
          <p:cNvPicPr/>
          <p:nvPr/>
        </p:nvPicPr>
        <p:blipFill>
          <a:blip r:embed="rId3"/>
          <a:stretch/>
        </p:blipFill>
        <p:spPr>
          <a:xfrm>
            <a:off x="5541840" y="6597720"/>
            <a:ext cx="254160" cy="24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1"/>
          <p:cNvSpPr/>
          <p:nvPr/>
        </p:nvSpPr>
        <p:spPr>
          <a:xfrm>
            <a:off x="0" y="2637000"/>
            <a:ext cx="9144000" cy="71280"/>
          </a:xfrm>
          <a:prstGeom prst="rect">
            <a:avLst/>
          </a:prstGeom>
          <a:gradFill rotWithShape="0">
            <a:gsLst>
              <a:gs pos="0">
                <a:srgbClr val="eaeaea">
                  <a:alpha val="45098"/>
                </a:srgbClr>
              </a:gs>
              <a:gs pos="100000">
                <a:srgbClr val="6c6c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9"/>
          <p:cNvSpPr/>
          <p:nvPr/>
        </p:nvSpPr>
        <p:spPr>
          <a:xfrm>
            <a:off x="0" y="6551640"/>
            <a:ext cx="9144000" cy="333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5"/>
          <p:cNvSpPr/>
          <p:nvPr/>
        </p:nvSpPr>
        <p:spPr>
          <a:xfrm>
            <a:off x="6229440" y="6610320"/>
            <a:ext cx="2377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3333cc"/>
                </a:solidFill>
                <a:latin typeface="Book Antiqua"/>
                <a:ea typeface="ＭＳ Ｐゴシック"/>
              </a:rPr>
              <a:t>僅供用書教師使用，版權所有，侵害必究</a:t>
            </a:r>
            <a:r>
              <a:rPr b="1" lang="en-US" sz="1200" spc="-1" strike="noStrike">
                <a:solidFill>
                  <a:srgbClr val="3333cc"/>
                </a:solidFill>
                <a:latin typeface="Book Antiqua"/>
                <a:ea typeface="ＭＳ Ｐゴシック"/>
              </a:rPr>
              <a:t>© 2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圖片_x0020_5" descr="image013"/>
          <p:cNvPicPr/>
          <p:nvPr/>
        </p:nvPicPr>
        <p:blipFill>
          <a:blip r:embed="rId3"/>
          <a:stretch/>
        </p:blipFill>
        <p:spPr>
          <a:xfrm>
            <a:off x="5541840" y="6597720"/>
            <a:ext cx="254160" cy="2491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24000" y="1125360"/>
            <a:ext cx="8424720" cy="53992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7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7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7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0D9C-5566-420C-876A-1D871506DC97}" type="datetime">
              <a:rPr b="0" lang="zh-TW" sz="1400" spc="-1" strike="noStrike">
                <a:solidFill>
                  <a:srgbClr val="000000"/>
                </a:solidFill>
                <a:latin typeface="Arial"/>
              </a:rPr>
              <a:t>115/0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黃明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166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使用者身分鑑別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User Authentication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投影片編號版面配置區 5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4E36-2B83-48AE-9049-0E2D4F9B528D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58920" y="1757520"/>
            <a:ext cx="8424720" cy="37432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使用者身分鑑別系統有二個重要觀念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925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0000"/>
                </a:solidFill>
                <a:latin typeface="Times New Roman"/>
              </a:rPr>
              <a:t>識別身分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(Personal Identific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系統必須能夠唯一識別每一位合法使用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925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0000"/>
                </a:solidFill>
                <a:latin typeface="Times New Roman"/>
              </a:rPr>
              <a:t>鑑別身分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(Authentic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系統必須不含糊地驗證使用者所宣稱之身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身分鑑別流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EBB7-0B0A-4EC1-920B-1B75C0541E2D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3528720" y="26352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使用者身分鑑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970360" y="387972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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識別身分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972160" y="5175360"/>
            <a:ext cx="34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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鑑別身分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3714480" y="4413240"/>
            <a:ext cx="21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name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c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3756240" y="570852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word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23dsfs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8" descr="p3"/>
          <p:cNvPicPr/>
          <p:nvPr/>
        </p:nvPicPr>
        <p:blipFill>
          <a:blip r:embed="rId1"/>
          <a:stretch/>
        </p:blipFill>
        <p:spPr>
          <a:xfrm>
            <a:off x="433440" y="1341360"/>
            <a:ext cx="8459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投影片編號版面配置區 5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061E-1FE6-4C0A-8390-12D6D43E0E8E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使用者身分識別系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14240" y="1413000"/>
            <a:ext cx="7772400" cy="496872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分成三個階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cc0000"/>
                </a:solidFill>
                <a:latin typeface="Times New Roman"/>
              </a:rPr>
              <a:t>註冊階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先向系統管理員申請帳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將使用者身分鑑別碼及通行密碼分配給使用者個人保管，系統儲存這些資訊在「系統資源單元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cc0000"/>
                </a:solidFill>
                <a:latin typeface="Times New Roman"/>
              </a:rPr>
              <a:t>進入系統階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出示身分，並由「讀取資料終端設備單元」輸入通行密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cc0000"/>
                </a:solidFill>
                <a:latin typeface="Times New Roman"/>
              </a:rPr>
              <a:t>鑑別身分階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系統在「身分鑑別處理單元」驗證使用者身分及通行密碼是否為合法使用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0414-B8EC-49E2-905C-B48C56976E7B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1374840" y="284040"/>
            <a:ext cx="642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4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通行密碼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Password)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之安全威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593640" y="981000"/>
            <a:ext cx="8226360" cy="36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cc0000"/>
                </a:solidFill>
                <a:latin typeface="Times New Roman"/>
              </a:rPr>
              <a:t>字典攻擊法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Dictionary Atta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以字典中之單字來測試使用者之通行密碼，一般常見單字有二萬個，測試一組單字僅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毫秒，因此以字典攻擊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秒內即可得知使用者的通行密碼（假設使用者之通行密碼為字典中之單字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cc0000"/>
                </a:solidFill>
                <a:latin typeface="Times New Roman"/>
              </a:rPr>
              <a:t>猜測攻擊法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Guessing Atta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以使用者相關之資料猜測使用者之通行密碼，如生日、身分證號碼、電話號碼及紀念日（如結婚紀念日）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cc0000"/>
                </a:solidFill>
                <a:latin typeface="Times New Roman"/>
              </a:rPr>
              <a:t>窮舉攻擊法或暴力攻擊法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Brute-Force Atta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將所有可能之通行密碼一一測試，因此若使用者所選之通行密碼過短，很快就會被測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ED41-D4DD-4F31-B94D-9991F77F634C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1676160" y="260280"/>
            <a:ext cx="608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猜測攻擊法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uessing Attack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-880560" y="1916280"/>
            <a:ext cx="10841400" cy="37497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長度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26</a:t>
            </a: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字元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6</a:t>
            </a: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字元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128</a:t>
            </a: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字元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          30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毫秒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毫秒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毫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        800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毫秒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秒              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          22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秒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8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秒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          10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分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分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3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小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826920" y="2798640"/>
            <a:ext cx="7391520" cy="0"/>
          </a:xfrm>
          <a:prstGeom prst="line">
            <a:avLst/>
          </a:prstGeom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0"/>
          <p:cNvSpPr/>
          <p:nvPr/>
        </p:nvSpPr>
        <p:spPr>
          <a:xfrm>
            <a:off x="826920" y="3560760"/>
            <a:ext cx="7391520" cy="0"/>
          </a:xfrm>
          <a:prstGeom prst="line">
            <a:avLst/>
          </a:prstGeom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826920" y="4246560"/>
            <a:ext cx="7391520" cy="0"/>
          </a:xfrm>
          <a:prstGeom prst="line">
            <a:avLst/>
          </a:prstGeom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826920" y="5008680"/>
            <a:ext cx="7391520" cy="0"/>
          </a:xfrm>
          <a:prstGeom prst="line">
            <a:avLst/>
          </a:prstGeom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3"/>
          <p:cNvSpPr/>
          <p:nvPr/>
        </p:nvSpPr>
        <p:spPr>
          <a:xfrm>
            <a:off x="2046240" y="1960560"/>
            <a:ext cx="0" cy="3733920"/>
          </a:xfrm>
          <a:prstGeom prst="line">
            <a:avLst/>
          </a:prstGeom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4"/>
          <p:cNvSpPr/>
          <p:nvPr/>
        </p:nvSpPr>
        <p:spPr>
          <a:xfrm>
            <a:off x="4103640" y="1960560"/>
            <a:ext cx="0" cy="3733920"/>
          </a:xfrm>
          <a:prstGeom prst="line">
            <a:avLst/>
          </a:prstGeom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5"/>
          <p:cNvSpPr/>
          <p:nvPr/>
        </p:nvSpPr>
        <p:spPr>
          <a:xfrm>
            <a:off x="6084720" y="1960560"/>
            <a:ext cx="0" cy="3733920"/>
          </a:xfrm>
          <a:prstGeom prst="line">
            <a:avLst/>
          </a:prstGeom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5892480" y="1484280"/>
            <a:ext cx="22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DP 11/7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實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投影片編號版面配置區 5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28C8-4457-40F6-93BF-D6B6A6CE8566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424720" cy="41752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0000"/>
                </a:solidFill>
                <a:latin typeface="Times New Roman"/>
              </a:rPr>
              <a:t>重送攻擊法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Replaying Atta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攔截使用者的通行密碼，重新輸入到主機系統，以通過系統驗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0000"/>
                </a:solidFill>
                <a:latin typeface="Times New Roman"/>
              </a:rPr>
              <a:t>行騙法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Spoof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類似金光黨的行騙手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駭客模擬主機系統之登入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ogin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畫面及其處理步驟，以騙取使用者密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通行密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Password)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的安全威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57ED-7332-4BDB-BE0B-3E9AF3B9891D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1374120" y="1125360"/>
            <a:ext cx="289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通行密碼之產生方式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928880" y="2075040"/>
            <a:ext cx="5464080" cy="41727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cc0000"/>
                </a:solidFill>
                <a:latin typeface="Times New Roman"/>
              </a:rPr>
              <a:t>使用者自選的通行密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User-Generated Passwor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容易受到字典及猜測攻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避免選擇：單字、與個人相關特性資料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鍵盤排列、重複使用在多台主機系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選擇不被猜中合理長度的通行密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字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cc0000"/>
                </a:solidFill>
                <a:latin typeface="Times New Roman"/>
              </a:rPr>
              <a:t>電腦隨機產生之通行密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mputer-Generated Passwor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不容易記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避免將通行密碼寫在筆記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6159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5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通行密碼管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投影片編號版面配置區 5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98FA-6F99-494D-BDF1-78DFFF57D9F5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通行密碼選擇的原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58920" y="1901520"/>
            <a:ext cx="8424720" cy="33843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選擇一個不易被猜中且長度合理的通行密碼，通常至少要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個字母以上長度，合理長度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個字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避免使用字典中可以找到的單字當作通行密碼，並最好在通行密碼中摻雜一些數字及分辨大小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勿將通行密碼寫在筆記本及其他任何地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避免選擇單字、與個人相關特性資料以及鍵盤排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避免多台主機系統共用相同通行密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FC57-31B6-4CAF-A9DC-D60241FAC4CA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2707200" y="237960"/>
            <a:ext cx="386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使用通行密碼需注意事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611280" y="1714680"/>
            <a:ext cx="7993080" cy="246672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除了特別的情況勿將通行碼給他人使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每次登錄時，先檢查系統給你的訊息，例如；上次登錄時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禁共用同一通行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當你離開終端機時一定要跳出系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4809-CE7A-4DB2-B292-8AF7673FC1B6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1839960" y="219240"/>
            <a:ext cx="562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通行密碼的生命週期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ifetim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82560" y="1863720"/>
            <a:ext cx="7777080" cy="275544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時常改變通行碼，每二至三個月改變一次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如有任何的理由懷疑通行碼已被他人知道，應該立刻改變它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因臨時性任務申請之通行密碼，任務結束後使用者帳號應予刪除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並備份該使用者檔案資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離職員工之帳號應予刪除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本章內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投影片編號版面配置區 5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0B50-CFDC-41D0-8D8D-AF2DD9EB5ED9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文字方塊 7"/>
          <p:cNvSpPr/>
          <p:nvPr/>
        </p:nvSpPr>
        <p:spPr>
          <a:xfrm>
            <a:off x="1067760" y="1428840"/>
            <a:ext cx="5307120" cy="50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前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身分鑑別類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3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身分鑑別流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通行密碼的安全威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通行密碼管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6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登入系統種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7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各種通行密碼技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8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beros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身分鑑別系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9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使用者終端設備的驗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投影片編號版面配置區 5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0D12-B042-447E-BD05-98A4BF37C9D6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6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登入系統種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772400" cy="51120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依照「終端設備」及「主機系統」之間距離及其連線媒介，分以下八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直接登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Direct Logins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或本機登入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本地登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Local Login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撥接登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Dialup Login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遠端登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Remote Login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網路芳鄰登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Distributed Login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網路登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Network Login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網頁登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Web-based Login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代理登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Proxy Login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批次登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Batch Login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子處理登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Subprocess Login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投影片編號版面配置區 5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22A8-E8F7-471D-B7D2-F5AB96553887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7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各種通行密碼技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239840" y="1197000"/>
            <a:ext cx="292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設計通行密碼需注意事項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58920" y="2114640"/>
            <a:ext cx="8424720" cy="286092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系統要訂定錯誤次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如三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同時有二人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Login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時之警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系統要有強迫使用者定期更改通行密碼功能，並檢示通行密碼是否合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字典單字、簡單、與其他使用者之通行密碼雷同或與先前的通行密碼重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使用者輸入完所有資料後才開始驗證其身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需回應上次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Login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之日期時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所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Login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之動作均需記錄， 以作為稽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1264-DEDB-439F-A8CF-B2C7CA383B84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2972880" y="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通行密碼技術之分類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576360" y="1484280"/>
            <a:ext cx="7991280" cy="47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系統需要儲存通行密碼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Password Tab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直接儲存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asswo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單向函數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One-Way Fun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通行密碼加密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assword Encryp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通行密碼加鹽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assword Sal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挑戰與回應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hallenge-Respon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時戳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ime-Stam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亂數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o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系統不需要儲存通行密碼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加密法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W = 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憑證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投影片編號版面配置區 6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804F-D11E-4154-AA21-751AE78EA9F5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直接儲存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6" descr=""/>
          <p:cNvPicPr/>
          <p:nvPr/>
        </p:nvPicPr>
        <p:blipFill>
          <a:blip r:embed="rId1"/>
          <a:stretch/>
        </p:blipFill>
        <p:spPr>
          <a:xfrm>
            <a:off x="2023920" y="2390760"/>
            <a:ext cx="509616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投影片編號版面配置區 5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19D8-96AF-4997-951D-F1534DACA655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直接儲存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612720" y="1484280"/>
            <a:ext cx="7920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計數器先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判斷使用者輸入之識別名稱格式是否正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從通行密碼表中找出相對應的通行密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將此密碼與使用者輸入的密碼作比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步驟二及四中，若判定為錯誤，則累加計數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判斷計數器是否已超過三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投影片編號版面配置區 5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7D66-8230-4678-B28B-494FFF99CB24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0" y="-71280"/>
            <a:ext cx="9144000" cy="695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4" descr="p3"/>
          <p:cNvPicPr/>
          <p:nvPr/>
        </p:nvPicPr>
        <p:blipFill>
          <a:blip r:embed="rId1"/>
          <a:stretch/>
        </p:blipFill>
        <p:spPr>
          <a:xfrm>
            <a:off x="1779480" y="-100080"/>
            <a:ext cx="5578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投影片編號版面配置區 5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3D81-1FE5-4822-A2A2-5EEF8F69704F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760320" y="54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單向函數法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ne-way func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文字方塊 7"/>
          <p:cNvSpPr/>
          <p:nvPr/>
        </p:nvSpPr>
        <p:spPr>
          <a:xfrm>
            <a:off x="2916360" y="5157720"/>
            <a:ext cx="3024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=F(PW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6" descr=""/>
          <p:cNvPicPr/>
          <p:nvPr/>
        </p:nvPicPr>
        <p:blipFill>
          <a:blip r:embed="rId1"/>
          <a:stretch/>
        </p:blipFill>
        <p:spPr>
          <a:xfrm>
            <a:off x="990720" y="2390760"/>
            <a:ext cx="716256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投影片編號版面配置區 5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803E-BBAA-4482-96CE-C65C805C4BE4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0" y="-100080"/>
            <a:ext cx="9144000" cy="695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p3"/>
          <p:cNvPicPr/>
          <p:nvPr/>
        </p:nvPicPr>
        <p:blipFill>
          <a:blip r:embed="rId1"/>
          <a:stretch/>
        </p:blipFill>
        <p:spPr>
          <a:xfrm>
            <a:off x="1239840" y="-44280"/>
            <a:ext cx="671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9782-D048-460F-9690-EF1A7499AB2A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987480" y="279360"/>
            <a:ext cx="710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通行密碼加密法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Password Encryptio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7" descr=""/>
          <p:cNvPicPr/>
          <p:nvPr/>
        </p:nvPicPr>
        <p:blipFill>
          <a:blip r:embed="rId1"/>
          <a:stretch/>
        </p:blipFill>
        <p:spPr>
          <a:xfrm>
            <a:off x="914400" y="2395440"/>
            <a:ext cx="731520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投影片編號版面配置區 5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0DAF-F30E-4613-BE74-B1968C50DECC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539892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其密碼系統採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加密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系統的通行密碼加密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817920" y="2143080"/>
            <a:ext cx="7468560" cy="35067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elnet  penguin.mis.nchu.edu.t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in username (s9414613) and passwo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cat/etc/password [Enter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s9414613:x:2374:503::/home/s9414613:/bin/b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代表使用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9414613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加密過後的通行密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投影片編號版面配置區 5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77A3-63E8-4CD6-9A71-E04DC03C1564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1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前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16714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使用者身分識別主要是要辨識某人是否為合法的系統使用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可分為二部份：使用者身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dentity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及鑑別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uthentication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。不但要能夠唯一識別使用者身分，而且必須要有方法來預防歹徒冒充別人身分的能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可說是電腦的守護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47A8-076F-41A4-857E-0ADBFA7DF752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1765800" y="2935440"/>
            <a:ext cx="5465880" cy="26535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elnet  ms13.hinet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assw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Enter login password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d12345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New password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1w3an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Re-enter new password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1w3an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2221200" y="1338120"/>
            <a:ext cx="342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主機系統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13.hinet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原通行密碼：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d12345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新通行密碼：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1w3an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403280" y="26028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更改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x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系統的通行密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投影片編號版面配置區 5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2945-A580-4F82-9086-444E82A58453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1541520" y="219240"/>
            <a:ext cx="618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通行密碼加鹽法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assword Sal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724920" y="2066760"/>
            <a:ext cx="184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%&amp;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為鹽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10" descr=""/>
          <p:cNvPicPr/>
          <p:nvPr/>
        </p:nvPicPr>
        <p:blipFill>
          <a:blip r:embed="rId1"/>
          <a:stretch/>
        </p:blipFill>
        <p:spPr>
          <a:xfrm>
            <a:off x="1295280" y="2774880"/>
            <a:ext cx="672480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投影片編號版面配置區 5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D8B2-F0A4-4C01-93AA-B5DFFDF9CBF3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時戳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250920" y="1547640"/>
            <a:ext cx="86421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用戶端發出「請求連線」訊息給主機系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主機系統回覆「請輸入使用者識別名稱及通行密碼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使用者輸入識別名稱及通行密碼後，連同用戶端電腦目前時　　　　　　　　　　　　　　　　　　　　　間：「使用者識別名稱、通行密碼及目前通訊時戳，以密文型式傳送給主機系統」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主機系統收到後，先做解密動作，得到原本使用者識別名稱、通行密碼及目前通訊時戳。接著計算目前系統時間與通訊時戳之差值，是否在合理範圍內。若是，再進一步比對使用者識別名稱及通行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投影片編號版面配置區 5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5D1C-E3F6-4576-B509-A008BF25B2B4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亂數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250920" y="1484280"/>
            <a:ext cx="864216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用戶端發出「請求連線」訊息給主機系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主機系統回覆一亂數值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，並請使用者輸入「使用者識別名稱及通行密碼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使用者輸入識別名稱及通行密碼後，連同收到的亂數值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，「使用者識別名稱、通行密碼及亂數值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」，一起以密文型式傳送給主機系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主機系統收到後，先做解密動作，得到原本使用者識別名稱、通行密碼及亂數值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。接著驗證此亂數值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是否與先前所傳送的相同。若是，再進一步比對使用者識別名稱及通行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投影片編號版面配置區 5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6EB5-BBE2-407E-9DE4-055F94B95DED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10" descr="p3"/>
          <p:cNvPicPr/>
          <p:nvPr/>
        </p:nvPicPr>
        <p:blipFill>
          <a:blip r:embed="rId1"/>
          <a:stretch/>
        </p:blipFill>
        <p:spPr>
          <a:xfrm>
            <a:off x="900000" y="1123920"/>
            <a:ext cx="3311640" cy="33847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8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rberos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身分鑑別系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1187280" y="4603680"/>
            <a:ext cx="619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其缺點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用戶端傳送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之通行密碼是以明文（未經加密處理）方式傳送，若遭截取其安全堪虞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通行票僅能使用在一伺服器，當要到不同的伺服器（如印表機伺服器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l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伺服器）要求提供服務時，則需重新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申請新的通行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2340000" y="1706400"/>
            <a:ext cx="396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簡單的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Kerberos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</a:rPr>
              <a:t>身分鑑別系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468360" y="2492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1908000" y="2205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1835280" y="335772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6408720" y="1484280"/>
            <a:ext cx="2556000" cy="25462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用戶識別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W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通行密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伺服器識別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用戶端網路位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000" spc="-1" strike="noStrike" baseline="-3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]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為用伺服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S)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的密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]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內資料做加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icke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通行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投影片編號版面配置區 5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1915-8342-4761-8ED8-1A7A9E78B599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10" descr="p3"/>
          <p:cNvPicPr/>
          <p:nvPr/>
        </p:nvPicPr>
        <p:blipFill>
          <a:blip r:embed="rId1"/>
          <a:stretch/>
        </p:blipFill>
        <p:spPr>
          <a:xfrm>
            <a:off x="2484360" y="1278000"/>
            <a:ext cx="3568680" cy="38797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4920" y="5364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更安全的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erberos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使用者身分驗證系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1152360" y="5292720"/>
            <a:ext cx="860436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icke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zh-TW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icke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zh-TW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2589120" y="31258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3165480" y="2924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4605480" y="327024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4532400" y="429264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4140360" y="29829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物件 1"/>
          <p:cNvGraphicFramePr/>
          <p:nvPr/>
        </p:nvGraphicFramePr>
        <p:xfrm>
          <a:off x="2560680" y="5904000"/>
          <a:ext cx="684000" cy="61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3" name="物件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60680" y="5904000"/>
                    <a:ext cx="68400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物件 2"/>
          <p:cNvGraphicFramePr/>
          <p:nvPr/>
        </p:nvGraphicFramePr>
        <p:xfrm>
          <a:off x="2697120" y="5292720"/>
          <a:ext cx="936720" cy="657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5" name="物件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97120" y="5292720"/>
                    <a:ext cx="93672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文字方塊 1"/>
          <p:cNvSpPr/>
          <p:nvPr/>
        </p:nvSpPr>
        <p:spPr>
          <a:xfrm>
            <a:off x="6875640" y="2421000"/>
            <a:ext cx="201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S: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cket- granting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97A1-9F21-46FE-AE8F-8C40796A5739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2416320" y="257040"/>
            <a:ext cx="46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9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使用者終端設備的驗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1619280" y="2205000"/>
            <a:ext cx="6553080" cy="27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spcBef>
                <a:spcPts val="15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0000"/>
                </a:solidFill>
                <a:latin typeface="Times New Roman"/>
              </a:rPr>
              <a:t>專線（直接驗證法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主機之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PIN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個人身分號碼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及通行密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71440">
              <a:spcBef>
                <a:spcPts val="15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cc0000"/>
                </a:solidFill>
                <a:latin typeface="Times New Roman"/>
              </a:rPr>
              <a:t>公用網路（憑證法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終端設備經認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IP Address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為連線之目的地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365A-CB31-43A9-8571-A2007509E38C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2708280" y="260280"/>
            <a:ext cx="325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身分辨識類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971640" y="1484280"/>
            <a:ext cx="748980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cc0000"/>
                </a:solidFill>
                <a:latin typeface="Times New Roman"/>
              </a:rPr>
              <a:t>證件驗證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(Something Hel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TW" sz="2600" spc="-1" strike="noStrike">
                <a:solidFill>
                  <a:srgbClr val="000000"/>
                </a:solidFill>
                <a:latin typeface="Times New Roman"/>
              </a:rPr>
              <a:t>條碼卡、 磁卡、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C</a:t>
            </a:r>
            <a:r>
              <a:rPr b="0" lang="zh-TW" sz="2600" spc="-1" strike="noStrike">
                <a:solidFill>
                  <a:srgbClr val="000000"/>
                </a:solidFill>
                <a:latin typeface="Times New Roman"/>
              </a:rPr>
              <a:t>卡、智慧卡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Smart Card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cc0000"/>
                </a:solidFill>
                <a:latin typeface="Times New Roman"/>
              </a:rPr>
              <a:t>生物特性驗證</a:t>
            </a:r>
            <a:r>
              <a:rPr b="0" lang="zh-TW" sz="32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omething Embodi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TW" sz="2600" spc="-1" strike="noStrike">
                <a:solidFill>
                  <a:srgbClr val="000000"/>
                </a:solidFill>
                <a:latin typeface="Times New Roman"/>
              </a:rPr>
              <a:t>生理結構唯一性：指紋、手紋、眼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TW" sz="2600" spc="-1" strike="noStrike">
                <a:solidFill>
                  <a:srgbClr val="000000"/>
                </a:solidFill>
                <a:latin typeface="Times New Roman"/>
              </a:rPr>
              <a:t>行為差異性：聲音、筆跡、鍵盤、滑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cc0000"/>
                </a:solidFill>
                <a:latin typeface="Times New Roman"/>
              </a:rPr>
              <a:t>通行密碼驗證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(Something Kn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Username</a:t>
            </a:r>
            <a:r>
              <a:rPr b="0" lang="zh-TW" sz="2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sswor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投影片編號版面配置區 5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1A0E-6BA2-452E-80C7-F221DCBC3EB8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證件驗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142640"/>
            <a:ext cx="8424720" cy="5398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條碼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有一維條碼及二維條碼二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二維條碼由於可存資料量比一維條碼多很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磁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以磁場信號來表示資訊內容，例如早期的電話卡、停車卡及信用卡大都使用磁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磁卡易受陽光曝曬變形及電磁場之影響，可靠性較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優點：成本較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4211640" y="2733840"/>
            <a:ext cx="44640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投影片編號版面配置區 5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438D-EFF1-48ED-83D2-54A3124094CC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證件驗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58920" y="1142640"/>
            <a:ext cx="8424720" cy="5398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由一或數個積體電路所組成，具有記憶功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卡與目前所使用的磁卡最大的差異，除了記憶容量及安全性高外，資料還可重寫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常見的有金融卡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電話卡及便利商店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-11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所推出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-Cash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智慧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體積小方便攜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有少量的記憶體及運算處理的能力。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智慧卡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卡最大的差別是早期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卡僅僅是記憶體，只輔助記憶個人機密資訊。智慧卡則如同一部缺少螢幕及鍵盤的迷你型電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投影片編號版面配置區 5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2FBC-FDA3-46BC-88ED-397560022DD4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生物特性驗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2472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0000"/>
                </a:solidFill>
                <a:latin typeface="Times New Roman"/>
              </a:rPr>
              <a:t>生理結構唯一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人的生理結構有些具有唯一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例如指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nger Print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、手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nd Shape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及眼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tina Print)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及臉型等等均不相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0000"/>
                </a:solidFill>
                <a:latin typeface="Times New Roman"/>
              </a:rPr>
              <a:t>行為差異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主要是一些行為習慣之不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例如每個人因為音頻、音律及音量等等不盡相同，因此都有各自獨特的聲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oice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每個人寫字力道、字型及字體等等不盡相同，因此每個人都有獨特的筆跡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ignature and Write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每個人打鍵盤的速度及力道有所差異，且使用滑鼠的習慣亦不盡相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16CB-602F-4660-89AC-9AFBD81359D4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2634120" y="219240"/>
            <a:ext cx="386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生物特徵驗證設備之評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889280" y="1459080"/>
            <a:ext cx="536544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9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錯誤接受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False Accept R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不合法使用者卻被驗證為合法使用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錯誤拒絕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False Reject R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合法使用者卻被誤認為不合法使用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活體驗證功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Live &amp; Die Verif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驗證時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Verify Ti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使用者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到系統驗證出結果之所需時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通行密碼驗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投影片編號版面配置區 1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C065-6A3E-4E16-9E6E-165088CF8D80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文字方塊 12"/>
          <p:cNvSpPr/>
          <p:nvPr/>
        </p:nvSpPr>
        <p:spPr>
          <a:xfrm>
            <a:off x="611280" y="141300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系統需維護一個儲存所有經授權使用者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及通行密碼檔案，當使用者登入時，系統便到此檔案核對使用者的通行密碼，以確認使用者是否經過授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如果這個通行密碼檔案未經保護，使用者的通行密碼很容易會被取得及竄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因此，對此通行密碼檔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assword File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做適當的保護有其必要，常見的保護方法有加密（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系統）及對此檔案做存取控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利用通行密碼來進行使用者驗證雖然簡單，但使用者通常為了方便記憶不會選擇太長的通行密碼，因此通行密碼很容易被猜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一般使用者身分鑑別系統會同時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卡及通行密碼技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1T15:15:57Z</dcterms:created>
  <dc:creator>mshwang</dc:creator>
  <dc:description/>
  <dc:language>en-US</dc:language>
  <cp:lastModifiedBy>user</cp:lastModifiedBy>
  <cp:lastPrinted>2000-07-21T09:11:03Z</cp:lastPrinted>
  <dcterms:modified xsi:type="dcterms:W3CDTF">2021-10-02T13:13:40Z</dcterms:modified>
  <cp:revision>139</cp:revision>
  <dc:subject/>
  <dc:title>無投影片標題</dc:title>
</cp:coreProperties>
</file>